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E790-1509-4FDA-AF49-92B12582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0373-4822-41CF-A495-5737A6C0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D9DE-2183-45B2-A22B-14D59D804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731E-95FA-46FD-BC94-D0DD439C7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2CF3-A073-426F-8C6A-F947C946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09CB-A75A-4C9B-9889-2D2E7224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BB0E-5F3C-4EF0-8772-14588045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AD84-0523-4FF2-B93C-883CD8E6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8BDA-F447-4675-9EB2-67389839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AE02-8B77-4551-AF7F-71D810A0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6440-7F51-464A-A095-92F46899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400E-EEF6-4262-A217-23F6A2E8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25A6-FDBD-479D-A58F-C456370CAF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iigo.com/education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roups.diigo.com/educators/bookmark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eachustech.ning.com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working for 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auri Arn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DLD 536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T8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igo. (2009, December 21). In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Retrieved January 23, 2010, from http://en.wikipedia.org/w/index.php?title=Diigo&amp;oldid=332947336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igo Home Page. (n.d.). Retrieved January 22, 2010, from www.diigo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et Smart: Top 10 Research Tools, (2006, October 20). Retrieved January 22, 2010, from http://reviews.cnet.com/4520-9239_7-665499-1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ing. (2009, October 9). In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Retrieved January 24, 2010, from http://en.wikipedia.org/w/index.php?title=Ning&amp;oldid=31887519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ing Blog. (n.d.). Retrieved January 23, 2010, from http://blog.ning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works that Benefit 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4" descr=""/>
          <p:cNvPicPr/>
          <p:nvPr/>
        </p:nvPicPr>
        <p:blipFill>
          <a:blip r:embed="rId1"/>
          <a:srcRect l="0" t="18164" r="2082" b="10472"/>
          <a:stretch/>
        </p:blipFill>
        <p:spPr>
          <a:xfrm>
            <a:off x="457200" y="1828800"/>
            <a:ext cx="4038480" cy="226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" name="Content Placeholder 5" descr=""/>
          <p:cNvPicPr/>
          <p:nvPr/>
        </p:nvPicPr>
        <p:blipFill>
          <a:blip r:embed="rId2"/>
          <a:srcRect l="0" t="18164" r="2082" b="8548"/>
          <a:stretch/>
        </p:blipFill>
        <p:spPr>
          <a:xfrm>
            <a:off x="4648320" y="1828800"/>
            <a:ext cx="4038480" cy="226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TextBox 7"/>
          <p:cNvSpPr/>
          <p:nvPr/>
        </p:nvSpPr>
        <p:spPr>
          <a:xfrm>
            <a:off x="457200" y="4191120"/>
            <a:ext cx="4038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 Diig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4648320" y="4191120"/>
            <a:ext cx="4038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 N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i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kipedia describes Diigo as a social bookmarking s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iigo site explains that it allows members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okmark websites and then organize using tags or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chive bookmarks making them search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light portions of a webpage and add sticky no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NET named Diigo one of the Top 10 Research Tools of 20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rcRect l="5769" t="43376" r="54169" b="25000"/>
          <a:stretch/>
        </p:blipFill>
        <p:spPr>
          <a:xfrm>
            <a:off x="2743200" y="4191120"/>
            <a:ext cx="36576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igo for Educ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rding to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Diigo.com/educ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educators can upgrade their free Diigo account to add several fea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cher can set up student accou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dents are automatically placed in Diigo group according to class memb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vacy settings protect stu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s are restricted to education-related cont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AQ of the Diigo site explains that teachers are able to “highlight critical features within text and images and write comments directly on the web page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igo also allows teachers to collaborate with each other and to share resources through various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Usage of Dii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groups.diigo.com/educators/bookma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tings allow me to stay up-to-date on changes in techn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earch topics for use in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nd current information on Web 2.0 tools and how other are using them in their cla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st array of content that is useful at colleg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rcRect l="0" t="8548" r="0" b="6624"/>
          <a:stretch/>
        </p:blipFill>
        <p:spPr>
          <a:xfrm>
            <a:off x="2057400" y="3900600"/>
            <a:ext cx="480060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ing blog describes Ning as “the social platform for the world's interests and passions onlin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kipedia says that Ning allows members to “create their own social networks around specific interest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ing a Ning network is like building your own Facebook or MySpace that you design to suit your nee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rcRect l="801" t="18376" r="4647" b="7904"/>
          <a:stretch/>
        </p:blipFill>
        <p:spPr>
          <a:xfrm>
            <a:off x="1762200" y="4038480"/>
            <a:ext cx="50958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ing for Educator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chers can build their own social network that focuses on their subject, grade level, project, or any other area that they ne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etwork creator can choose whether the network is private or publ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network can be divided as nee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ividual classes could share ideas or use for study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hool district or campus administration could create a network to share information or to collaborate on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chers across the state, nation, or the world could communicate with each other about various top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Usage of 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 networks that are centered around teaching technology in order to learn more about web 2.0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teachustech.ning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e a network for my program which would serve multiple purpo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dents stay current with the fi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ors post discussion topics for class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2"/>
          <a:srcRect l="2403" t="11540" r="4167" b="6836"/>
          <a:stretch/>
        </p:blipFill>
        <p:spPr>
          <a:xfrm>
            <a:off x="2438280" y="4419720"/>
            <a:ext cx="36576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rning 2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ucation focused social networking sites help me lea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om other educ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om my stu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out new tools for use in the classro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to use old tools in new w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ucation focused social networking sites help me te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e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line discuss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edback from stu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 from expe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8:34:30Z</dcterms:created>
  <dc:creator>Lauri</dc:creator>
  <dc:description/>
  <dc:language>en-US</dc:language>
  <cp:lastModifiedBy>Lauri</cp:lastModifiedBy>
  <dcterms:modified xsi:type="dcterms:W3CDTF">2010-05-27T19:41:51Z</dcterms:modified>
  <cp:revision>78</cp:revision>
  <dc:subject/>
  <dc:title>Slide 1</dc:title>
</cp:coreProperties>
</file>