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B95-2FCB-4853-B32D-4C0C407C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F71-E816-4811-9605-66D7C951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1BD-685D-41F1-BFC7-D291CD92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FDD-B4F1-453D-BE67-329DA7D0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25E-2B4E-45DF-A27C-59025DF0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673-F089-4DA9-82EF-CDFEAD3D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85E-0FC0-4D21-9E32-E39986B4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D97-A59E-47BE-B8D2-F994F251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A45-5355-4B5F-900D-03FE33D7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352-403C-457E-AEF3-4FB9B21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0D6-4D47-43A4-890E-E9AB85A6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F76-E7F5-4B75-AC81-DBF4C8C4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D477-BF8D-4764-A3B7-711E544FB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igo.com/educ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roups.diigo.com/educators/bookmar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ustech.ning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fo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uri Arn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DLD 53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T8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. (2009, December 21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3, 2010, from http://en.wikipedia.org/w/index.php?title=Diigo&amp;oldid=33294733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 Home Page. (n.d.). Retrieved January 22, 2010, from www.diigo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t Smart: Top 10 Research Tools, (2006, October 20). Retrieved January 22, 2010, from http://reviews.cnet.com/4520-9239_7-665499-1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. (2009, October 9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4, 2010, from http://en.wikipedia.org/w/index.php?title=Ning&amp;oldid=3188751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 Blog. (n.d.). Retrieved January 23, 2010, from http://blog.ning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s that Benefit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"/>
          <p:cNvPicPr/>
          <p:nvPr/>
        </p:nvPicPr>
        <p:blipFill>
          <a:blip r:embed="rId1"/>
          <a:srcRect l="0" t="18164" r="2082" b="10472"/>
          <a:stretch/>
        </p:blipFill>
        <p:spPr>
          <a:xfrm>
            <a:off x="45720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Content Placeholder 5" descr=""/>
          <p:cNvPicPr/>
          <p:nvPr/>
        </p:nvPicPr>
        <p:blipFill>
          <a:blip r:embed="rId2"/>
          <a:srcRect l="0" t="18164" r="2082" b="8548"/>
          <a:stretch/>
        </p:blipFill>
        <p:spPr>
          <a:xfrm>
            <a:off x="464832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7"/>
          <p:cNvSpPr/>
          <p:nvPr/>
        </p:nvSpPr>
        <p:spPr>
          <a:xfrm>
            <a:off x="45720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Diig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64832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describes Diigo as a social bookmarking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igo site explains that it allows member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kmark websites and then organize using tags or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ve bookmarks making them search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 portions of a webpage and add sticky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ET named Diigo one of the Top 10 Research Tools of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5769" t="43376" r="54169" b="25000"/>
          <a:stretch/>
        </p:blipFill>
        <p:spPr>
          <a:xfrm>
            <a:off x="2743200" y="4191120"/>
            <a:ext cx="36576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Diigo.com/edu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ducators can upgrade their free Diigo account to add several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can set up student accou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are automatically placed in Diigo group according to class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cy settings protect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s are restricted to education-related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Q of the Diigo site explains that teachers are able to “highlight critical features within text and images and write comments directly on the web pag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igo also allows teachers to collaborate with each other and to share resources through vario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roups.diigo.com/educators/book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ings allow me to stay up-to-date on changes in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 topics for use i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current information on Web 2.0 tools and how other are using them in their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st array of content that is useful at colleg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0" t="8548" r="0" b="6624"/>
          <a:stretch/>
        </p:blipFill>
        <p:spPr>
          <a:xfrm>
            <a:off x="2057400" y="3900600"/>
            <a:ext cx="48006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ing blog describes Ning as “the social platform for the world's interests and passions onli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says that Ning allows members to “create their own social networks around specific intere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Ning network is like building your own Facebook or MySpace that you design to suit your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801" t="18376" r="4647" b="7904"/>
          <a:stretch/>
        </p:blipFill>
        <p:spPr>
          <a:xfrm>
            <a:off x="1762200" y="4038480"/>
            <a:ext cx="5095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 for Educator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can build their own social network that focuses on their subject, grade level, project, or any other area that they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twork creator can choose whether the network is private or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twork can be divided 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 classes could share ideas or use for study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district or campus administration could create a network to share information or to collaborate on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s across the state, nation, or the world could communicate with each other about various to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networks that are centered around teaching technology in order to learn more about web 2.0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chustech.ni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network for my program which would serve multiple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stay current with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ors post discussion topics for clas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rcRect l="2403" t="11540" r="4167" b="6836"/>
          <a:stretch/>
        </p:blipFill>
        <p:spPr>
          <a:xfrm>
            <a:off x="2438280" y="4419720"/>
            <a:ext cx="3657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other edu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my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new tools for use in the class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use old tools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te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ine discu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back from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from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34:30Z</dcterms:created>
  <dc:creator>Lauri</dc:creator>
  <dc:description/>
  <dc:language>en-US</dc:language>
  <cp:lastModifiedBy>Lauri</cp:lastModifiedBy>
  <dcterms:modified xsi:type="dcterms:W3CDTF">2010-05-27T19:41:51Z</dcterms:modified>
  <cp:revision>78</cp:revision>
  <dc:subject/>
  <dc:title>Slide 1</dc:title>
</cp:coreProperties>
</file>